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5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6.jpeg" ContentType="image/jpeg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2DF2F-72E6-4176-BBC3-EF9D81A739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also remove the tarnish by multiplying both sides of the equation by the reciprocal of the number that is the “tarnish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 this slide, putting an explanation below each equation of how you would use the mud and tarnish to solve the equation, such a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would add 5 to both sides of the equation, and then divide both sides of the equation by 4…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this slide to make up your own mud/tarnish problem, showing each step in solving the probl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33249B-04B0-4080-A19F-87BDA5C33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722ED4-CF8A-4EF0-A598-71182F72A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7EBD1B-ECFF-41F0-9832-F0E5D3242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9643E0-2A79-404D-9A36-DEFDCEBC7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9D99C-6F79-4D56-A55B-4A010987E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AA327-F649-4A17-B603-866D5D67E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825DA-B54E-4E57-AC94-6A7286D01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98033-B5A1-437D-8795-BBF8EA7B1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E976F-4715-4127-AFA2-80618E51E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11DBC-036E-4D81-A544-771B50FC6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3B200-4734-4721-97D3-E4832A005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F646D9-E9C4-4968-A5BF-0206B7F0C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0C8EC-96F1-443A-A5EB-FD953A08C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09D83-BE82-4AB4-AF5B-0674D43A9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3D10D-E287-433E-A75D-49AC5D409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E7768-CB51-423D-B6DF-49A6B19FC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48021-1F4E-4832-AA78-9815B76AE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99A6B7-2728-4DD5-A97E-2394E5B33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28ECAD-90B7-4B13-83B5-169B4C228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314D48-46ED-4DA1-88B9-FEFD2E6E5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5A827C-62DC-4004-991A-B937AA43B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12736F-EFF0-4056-92D1-B4AAFD230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EB44B9-5AD0-4024-9195-06D50C7F7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BFD7CA-5B85-41D8-8F00-52FF440D0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BA64D-E735-4FE8-B939-4AA6BA1BF0C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C4EA7-2BF1-4F9A-A32A-33466181A1E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IspeUm12vPg&amp;mode=related&amp;search=" TargetMode="Externa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11.xml"/><Relationship Id="rId3" Type="http://schemas.openxmlformats.org/officeDocument/2006/relationships/slide" Target="slide11.xml"/><Relationship Id="rId4" Type="http://schemas.openxmlformats.org/officeDocument/2006/relationships/oleObject" Target="../embeddings/oleObject1.bin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olving Single Variable Linear Equations </a:t>
            </a:r>
            <a:br>
              <a:rPr sz="40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(The Mud/Tarnish problem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By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Rhonda Renke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81080"/>
            <a:ext cx="79246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800" spc="-1" strike="noStrike">
                <a:solidFill>
                  <a:srgbClr val="0000ff"/>
                </a:solidFill>
                <a:latin typeface="Arial"/>
              </a:rPr>
              <a:t>What are the steps in solving an linear equation with one variable using the mud/tarnish strategy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STEP 1: Identify the MUD: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381880" cy="5181480"/>
          </a:xfrm>
          <a:prstGeom prst="rect">
            <a:avLst/>
          </a:prstGeom>
          <a:solidFill>
            <a:srgbClr val="000099"/>
          </a:solidFill>
          <a:ln w="9360">
            <a:solidFill>
              <a:srgbClr val="66ff3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 MUD is the number that is on the same side of the equation as the variable you are solving fo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 MUD is </a:t>
            </a: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added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or </a:t>
            </a: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subtracted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to that vari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To remove the MUD, perform the inverse operation to the equation on both sides, using that same numb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x + 4 = 6    Four is added to 2x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i="1" lang="en-US" sz="1600" spc="-1" strike="noStrike">
                <a:solidFill>
                  <a:srgbClr val="ffff00"/>
                </a:solidFill>
                <a:latin typeface="Arial"/>
              </a:rPr>
              <a:t>Subtract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 4 from both sides of the equ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7x - 3  = 4.  Three is subtracted from 7x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        </a:t>
            </a:r>
            <a:r>
              <a:rPr b="1" i="1" lang="en-US" sz="1600" spc="-1" strike="noStrike">
                <a:solidFill>
                  <a:srgbClr val="ffff00"/>
                </a:solidFill>
                <a:latin typeface="Arial"/>
              </a:rPr>
              <a:t>Add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 3 to both sides of the equ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tep 2: Identify the TARNIS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305920" cy="434340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TARNISH is the number that is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ultiplie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or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ivide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he variable that you are solving for (such as 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remove the TARNISH, perform  the inverse operation to the equation on both sides, using that same numb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: 2x = 4       Two is multiplied times 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ivid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both sides of the equation by 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: x/3 = 6       x is divided by th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ultipl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both sides of the equation by 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There are different ways to look at how to solve a linear equation with one variable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see a </a:t>
            </a:r>
            <a:r>
              <a:rPr b="0" lang="en-US" sz="24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cool video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about it?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on the link above to watch i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n you identify the MUD (Step 1)and TARNISH (Step 2) in these equation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x + 2 = 12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                       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Mud: + 2    Tarnish:  x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2x = 24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                       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Mud: 0       Tarnish:  x 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x – 4 = 4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                       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Mud: -4      Tarnish:  x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/3 – 8 = 13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                       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Mud: -8      Tarnish: Divide by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3936960" y="247644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36960" y="247644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Now that you can identify the MUD </a:t>
            </a:r>
            <a:br>
              <a:rPr sz="3200"/>
            </a:b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and TARNISH, explain how to use this information to solve the following equation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x + 2 = 12   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Mud: + 2    Tarnish:  x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Subtract 2 from both sides, and then divide both sides by 6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x – 4 = 4   </a:t>
            </a: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Mud: -4      Tarnish:  x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Add 4 to both sides, and then divide both sides by 2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Arial"/>
              </a:rPr>
              <a:t>     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1" action="ppaction://hlinksldjump"/>
              </a:rPr>
              <a:t>How would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2" action="ppaction://hlinksldjump"/>
              </a:rPr>
              <a:t>you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3" action="ppaction://hlinksldjump"/>
              </a:rPr>
              <a:t>finish this problem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x/3 – 8 = 13 </a:t>
            </a: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Mud: -8      Tarnish: Divide by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3936960" y="2476440"/>
          <a:ext cx="914400" cy="198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936960" y="247644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You can use the “mud/tarnish” strategy to solve many types of algebra problem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79916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lems with one variable like the ones you’ve just seen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lems with more than one variab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eat the other variables as if they were just numbe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d and tarnish”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lems with fractions, square roots, even complex number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types of numbers and variable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a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e “mud and tarnish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(type your name here) solved a single variable linear equation using the mud/tarnish strateg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your equation her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then show your classmates how to solve it, using this slid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7315200" cy="7632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txBody>
          <a:bodyPr lIns="90000" rIns="90000" tIns="29520" bIns="295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his is another way to look at solving linear equations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914400" y="743040"/>
            <a:ext cx="7467480" cy="60865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MEMBER, when you are solving equations using the mud/tarnish method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4343400" cy="44197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art of the equation  remaining after you clean off the mud and tarnis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variabl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at you are solving for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nd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numbe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at it repres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ha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variable is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ring of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r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quatio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5819760" y="3360600"/>
            <a:ext cx="3071880" cy="20415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7d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ving single variable equations can seem tricky, at first, so begin by asking yourself several ques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do I solve the equation 3x + 5 = 14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f I broke the problem down into steps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would I do for the first step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would I do for the second step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do I know what part of the equation to use for each step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Informal Roman"/>
              </a:rPr>
              <a:t>    </a:t>
            </a:r>
            <a:r>
              <a:rPr b="0" lang="en-US" sz="7200" spc="-1" strike="noStrike">
                <a:solidFill>
                  <a:srgbClr val="000000"/>
                </a:solidFill>
                <a:latin typeface="Informal Roman"/>
              </a:rPr>
              <a:t>THE    END</a:t>
            </a:r>
            <a:br>
              <a:rPr sz="7200"/>
            </a:b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Our work is done, but the treasure hunters are still digging in the mud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3724200" y="3360600"/>
            <a:ext cx="1693800" cy="11257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1676520" y="2209680"/>
            <a:ext cx="6086520" cy="42768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8229600" cy="47242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imes, to solve a problem, it helps to relate it to something that is entirely differen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coul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ossib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e relat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x + 5 = 14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uld you believe: Cleaning the muddy, tarnished rings of ancient Roman sold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fore we start to solve our algebra problem, we need to learn a little about these Romans and their ring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4267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0 years ago, Roman soldiers fought  battles against fierce tribes in what is now Europ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se soldiers buried their rings and other jewelry before battle to protect their valuab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metimes the soldiers died in battle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metimes, the soldiers survived the battle, but just couldn’t remember where they had buried their jewelry.  (They must have dug a lot of holes trying to find it!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 today, people with metal detectors in England, Germany, and even in Eastern Europe find this jewelry. .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867280" y="2438280"/>
            <a:ext cx="2265480" cy="33530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times…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they find Roman rings in the mu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times these rings are clea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times these rings are </a:t>
            </a: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mudd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times these rings are </a:t>
            </a:r>
            <a:r>
              <a:rPr b="0" lang="en-US" sz="2800" spc="-1" strike="noStrike">
                <a:solidFill>
                  <a:srgbClr val="9999ff"/>
                </a:solidFill>
                <a:latin typeface="Arial"/>
              </a:rPr>
              <a:t>tarnish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usually, these rings are </a:t>
            </a:r>
            <a:r>
              <a:rPr b="0" lang="en-US" sz="3200" spc="-1" strike="noStrike">
                <a:solidFill>
                  <a:srgbClr val="9999ff"/>
                </a:solidFill>
                <a:latin typeface="Arial"/>
              </a:rPr>
              <a:t>tarnishe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mudd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066680" y="1981080"/>
            <a:ext cx="3638520" cy="24116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523880" y="4219560"/>
            <a:ext cx="1905120" cy="14288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8229600" cy="1371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’s pretend YOU found a Roman ring,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and it was muddy AND tarnished.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How would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you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lean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200400" y="2590920"/>
            <a:ext cx="4573440" cy="33796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is on the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ver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outsid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f the ring,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            the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mu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or the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arnis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3200" spc="-1" strike="noStrike">
                <a:solidFill>
                  <a:srgbClr val="a50021"/>
                </a:solidFill>
                <a:latin typeface="Arial"/>
              </a:rPr>
              <a:t>mu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on the outside of the ring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t is what you would clean off firs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as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clean o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3200" spc="-1" strike="noStrike">
                <a:solidFill>
                  <a:srgbClr val="0000ff"/>
                </a:solidFill>
                <a:latin typeface="Arial"/>
              </a:rPr>
              <a:t>tarnis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harder to clean o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would clean it of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f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</a:t>
            </a: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mu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ov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, let’s compare the mud and tarnish to parts of our equation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3 x + 5 = 1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the MUD in this equ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swer:  5 is the mud.  It is the easiest part of the equation to “clean up”, as it is only added to the 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do we get rid of the mu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swer: We “wash off” the mud, 5, by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btract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5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both sides of the equatio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ce subtracting 5 is the inverse of adding 5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                                       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3x + 5 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–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5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= 14 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–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                                                   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3x = 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that the mud is gone, what is the                        TARNISH in the equation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3x = 9 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ARNISH is the number 3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“attached” to x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ultiplic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“remove the tarnish”, you mus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ivi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oth sides of the equation by 3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ivi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y 3  because division is the inverse operation of multiplic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3x / 3 = 9 /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, 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8T03:13:47Z</dcterms:created>
  <dc:creator>Rhonda Renker</dc:creator>
  <dc:description/>
  <dc:language>en-US</dc:language>
  <cp:lastModifiedBy>Rhonda Jones</cp:lastModifiedBy>
  <dcterms:modified xsi:type="dcterms:W3CDTF">2007-03-07T03:08:42Z</dcterms:modified>
  <cp:revision>37</cp:revision>
  <dc:subject/>
  <dc:title>Solving Single Variable Equations</dc:title>
</cp:coreProperties>
</file>